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1440" y="-38520"/>
            <a:ext cx="8820360" cy="838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1461600"/>
            <a:ext cx="8420400" cy="2289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3969000"/>
            <a:ext cx="8420400" cy="2289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1440" y="-38520"/>
            <a:ext cx="8820360" cy="838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1461600"/>
            <a:ext cx="4109040" cy="2289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5360" y="1461600"/>
            <a:ext cx="4109040" cy="2289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3969000"/>
            <a:ext cx="4109040" cy="2289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5360" y="3969000"/>
            <a:ext cx="4109040" cy="2289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1440" y="-38520"/>
            <a:ext cx="8820360" cy="838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146160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7640" y="146160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4520" y="146160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396900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7640" y="396900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84520" y="396900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6E31-CAE8-43F9-820C-35706EEB7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1440" y="-38520"/>
            <a:ext cx="8820360" cy="838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0400" y="1461600"/>
            <a:ext cx="8420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2431-A5FC-4A79-A325-5A3BC68A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1440" y="-38520"/>
            <a:ext cx="8820360" cy="838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1461600"/>
            <a:ext cx="84204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285F-EA00-4C88-9872-D32EE3FF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1440" y="-38520"/>
            <a:ext cx="8820360" cy="838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0400" y="1461600"/>
            <a:ext cx="410904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05360" y="1461600"/>
            <a:ext cx="410904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D611-A402-4AF9-B15E-3100A12F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1440" y="-38520"/>
            <a:ext cx="8820360" cy="838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CED9-5453-427E-9C35-59A67CA9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61440" y="-38520"/>
            <a:ext cx="88203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7D15-DDB4-4E3F-9BB5-D83EEA6E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1440" y="-38520"/>
            <a:ext cx="8820360" cy="838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0400" y="1461600"/>
            <a:ext cx="4109040" cy="2289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05360" y="1461600"/>
            <a:ext cx="410904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0400" y="3969000"/>
            <a:ext cx="4109040" cy="2289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C73B-20EF-4763-87AD-C4FC7E04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1440" y="-38520"/>
            <a:ext cx="8820360" cy="838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1461600"/>
            <a:ext cx="8420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1440" y="-38520"/>
            <a:ext cx="8820360" cy="838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0400" y="1461600"/>
            <a:ext cx="410904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5360" y="1461600"/>
            <a:ext cx="4109040" cy="2289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05360" y="3969000"/>
            <a:ext cx="4109040" cy="2289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2071-B292-43E4-A4C4-C0DCAE41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1440" y="-38520"/>
            <a:ext cx="8820360" cy="838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0400" y="1461600"/>
            <a:ext cx="4109040" cy="2289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5360" y="1461600"/>
            <a:ext cx="4109040" cy="2289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0400" y="3969000"/>
            <a:ext cx="8420400" cy="2289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09D0-43D6-4540-A954-9AD9C56E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1440" y="-38520"/>
            <a:ext cx="8820360" cy="838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0400" y="1461600"/>
            <a:ext cx="8420400" cy="2289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0400" y="3969000"/>
            <a:ext cx="8420400" cy="2289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66A3-BEB0-419E-B330-7C2F2234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1440" y="-38520"/>
            <a:ext cx="8820360" cy="838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0400" y="1461600"/>
            <a:ext cx="4109040" cy="2289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05360" y="1461600"/>
            <a:ext cx="4109040" cy="2289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0400" y="3969000"/>
            <a:ext cx="4109040" cy="2289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05360" y="3969000"/>
            <a:ext cx="4109040" cy="2289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5665-4004-41BE-8A63-36AD4BA3F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1440" y="-38520"/>
            <a:ext cx="8820360" cy="838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0400" y="146160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37640" y="146160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84520" y="146160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0400" y="396900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37640" y="396900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84520" y="396900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BF19-1938-4B88-85F1-31014BECA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1440" y="-38520"/>
            <a:ext cx="8820360" cy="838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1461600"/>
            <a:ext cx="84204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1440" y="-38520"/>
            <a:ext cx="8820360" cy="838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1461600"/>
            <a:ext cx="410904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5360" y="1461600"/>
            <a:ext cx="410904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1440" y="-38520"/>
            <a:ext cx="8820360" cy="838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1440" y="-38520"/>
            <a:ext cx="88203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1440" y="-38520"/>
            <a:ext cx="8820360" cy="838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1461600"/>
            <a:ext cx="4109040" cy="2289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5360" y="1461600"/>
            <a:ext cx="410904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3969000"/>
            <a:ext cx="4109040" cy="2289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1440" y="-38520"/>
            <a:ext cx="8820360" cy="838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1461600"/>
            <a:ext cx="410904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5360" y="1461600"/>
            <a:ext cx="4109040" cy="2289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5360" y="3969000"/>
            <a:ext cx="4109040" cy="2289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1440" y="-38520"/>
            <a:ext cx="8820360" cy="838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1461600"/>
            <a:ext cx="4109040" cy="2289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5360" y="1461600"/>
            <a:ext cx="4109040" cy="2289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3969000"/>
            <a:ext cx="8420400" cy="2289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1440" y="-38520"/>
            <a:ext cx="8820360" cy="838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1461600"/>
            <a:ext cx="84204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marL="476280" indent="-4762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-4762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547640" indent="-2142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952640" indent="-214200">
              <a:spcBef>
                <a:spcPts val="799"/>
              </a:spcBef>
              <a:buClr>
                <a:srgbClr val="f5f5f5"/>
              </a:buClr>
              <a:buFont typeface="Arial"/>
              <a:buChar char="–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57280" indent="-214200">
              <a:spcBef>
                <a:spcPts val="799"/>
              </a:spcBef>
              <a:buClr>
                <a:srgbClr val="f5f5f5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57280" indent="-214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57280" indent="-214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902800" y="762120"/>
            <a:ext cx="11505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fld id="{9B9A2991-D349-48F2-A685-C9C0F05FE1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/5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5"/>
          <a:stretch/>
        </p:blipFill>
        <p:spPr>
          <a:xfrm>
            <a:off x="162000" y="76320"/>
            <a:ext cx="533160" cy="6188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28600" y="895320"/>
            <a:ext cx="8940960" cy="69840"/>
          </a:xfrm>
          <a:prstGeom prst="roundRect">
            <a:avLst>
              <a:gd name="adj" fmla="val 49995"/>
            </a:avLst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2680" y="144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74304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2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3"/>
          </p:nvPr>
        </p:nvSpPr>
        <p:spPr>
          <a:xfrm>
            <a:off x="709884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fld id="{6EF4A2F8-730F-4AC3-A667-E1E7572AE8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19240" y="152280"/>
            <a:ext cx="552240" cy="657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76280" y="3295800"/>
            <a:ext cx="8940600" cy="69840"/>
          </a:xfrm>
          <a:prstGeom prst="roundRect">
            <a:avLst>
              <a:gd name="adj" fmla="val 49995"/>
            </a:avLst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 algn="ctr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477720" algn="ctr"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84120" indent="454320" algn="ctr">
              <a:spcBef>
                <a:spcPts val="499"/>
              </a:spcBef>
              <a:buClr>
                <a:srgbClr val="f5f5f5"/>
              </a:buClr>
              <a:buFont typeface="Arial"/>
              <a:buChar char="–"/>
              <a:tabLst>
                <a:tab algn="l" pos="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11440" indent="431640" algn="ctr">
              <a:spcBef>
                <a:spcPts val="476"/>
              </a:spcBef>
              <a:buClr>
                <a:srgbClr val="f5f5f5"/>
              </a:buClr>
              <a:buFont typeface="Arial"/>
              <a:buChar char="•"/>
              <a:tabLst>
                <a:tab algn="l" pos="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1711440" indent="4316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1711440" indent="4316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39360" y="19839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pt-BR" sz="3400" spc="-1" strike="noStrike">
                <a:solidFill>
                  <a:srgbClr val="000000"/>
                </a:solidFill>
                <a:latin typeface="Arial"/>
              </a:rPr>
              <a:t>Conceitos de Gerência de Projetos</a:t>
            </a: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60280" y="3489480"/>
            <a:ext cx="4400280" cy="9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José Roberto Blasc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blaschek@attglobal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61440" y="-38520"/>
            <a:ext cx="8820360" cy="838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pt-BR" sz="3400" spc="-1" strike="noStrike">
                <a:solidFill>
                  <a:srgbClr val="000000"/>
                </a:solidFill>
                <a:latin typeface="Arial"/>
              </a:rPr>
              <a:t>Gerência de Projeto</a:t>
            </a: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90400" y="1461960"/>
            <a:ext cx="8420400" cy="36007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cução de atividades e tarefas que têm como propósito planejar e controlar atividades de </a:t>
            </a:r>
            <a:r>
              <a:rPr b="1" i="1" lang="pt-BR" sz="3200" spc="-1" strike="noStrike">
                <a:solidFill>
                  <a:srgbClr val="333399"/>
                </a:solidFill>
                <a:latin typeface="Arial"/>
              </a:rPr>
              <a:t>outras pessoas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3200" spc="-1" strike="noStrike">
                <a:solidFill>
                  <a:srgbClr val="6600cc"/>
                </a:solidFill>
                <a:latin typeface="Arial"/>
              </a:rPr>
              <a:t>para atingir objetivos que não podem ser alcançados, caso as pessoas atuem por conta própri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61440" y="-38520"/>
            <a:ext cx="8820360" cy="838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pt-BR" sz="3400" spc="-1" strike="noStrike">
                <a:solidFill>
                  <a:srgbClr val="000000"/>
                </a:solidFill>
                <a:latin typeface="Arial"/>
              </a:rPr>
              <a:t>Gerência de Projetos Envolve </a:t>
            </a: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1461960"/>
            <a:ext cx="8420400" cy="49723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marL="476280" indent="-476280">
              <a:lnSpc>
                <a:spcPct val="13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85716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quilibr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47600" indent="-38088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85716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manda por escopo, tempo, custo e qual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47600" indent="-380880">
              <a:lnSpc>
                <a:spcPct val="13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85716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ferentes necessidades e expectativas das partes envolvidas (patrocinador, equipe,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erente do projeto,  cliente, usuários, fornecedores, organização executora e oponent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61440" y="-38520"/>
            <a:ext cx="8820360" cy="838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pt-BR" sz="3400" spc="-1" strike="noStrike">
                <a:solidFill>
                  <a:srgbClr val="000000"/>
                </a:solidFill>
                <a:latin typeface="Arial"/>
              </a:rPr>
              <a:t>Sucesso da Gerência</a:t>
            </a: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90400" y="1442880"/>
            <a:ext cx="8591760" cy="4896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marL="476280" indent="0">
              <a:spcBef>
                <a:spcPts val="601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t-BR" sz="2400" spc="-1" strike="noStrike">
                <a:solidFill>
                  <a:srgbClr val="6600cc"/>
                </a:solidFill>
                <a:latin typeface="Arial"/>
              </a:rPr>
              <a:t>Alcançar os objetivos do proje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ntro do praz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s custos prev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 o nível de desempenho/tecnologia esper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tilizando os recursos de forma eficiente e efica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 aceitação do cliente/usuá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ndo indicar o cliente como referê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 um mínimo, ou acordo mútuo, de mudanças de escop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m provocar distúrbios no fluxo de trabalho da organ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61440" y="-38520"/>
            <a:ext cx="8820360" cy="838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pt-BR" sz="3400" spc="-1" strike="noStrike">
                <a:solidFill>
                  <a:srgbClr val="000000"/>
                </a:solidFill>
                <a:latin typeface="Arial"/>
              </a:rPr>
              <a:t>Crescimento da Gestão de Projetos</a:t>
            </a: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286080" y="1262160"/>
            <a:ext cx="3265200" cy="5338800"/>
            <a:chOff x="3286080" y="1262160"/>
            <a:chExt cx="3265200" cy="5338800"/>
          </a:xfrm>
        </p:grpSpPr>
        <p:sp>
          <p:nvSpPr>
            <p:cNvPr id="229" name=""/>
            <p:cNvSpPr/>
            <p:nvPr/>
          </p:nvSpPr>
          <p:spPr>
            <a:xfrm>
              <a:off x="3328200" y="1697040"/>
              <a:ext cx="3180600" cy="3881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43200" bIns="43200" anchor="t">
              <a:spAutoFit/>
            </a:bodyPr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23510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Empresas orientadas especialmente para a produção mas com muitos proje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2351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Ênfase no desenvolvimento de novos produ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23510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Voltadas para o marke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23510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Produtos com curto ciclo de vi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23510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Necessidade de rapidez no desenvolvimento dos process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39000" y="1262160"/>
              <a:ext cx="3156840" cy="333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43200" bIns="43200" anchor="t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Híbrid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286080" y="6267600"/>
              <a:ext cx="3265200" cy="333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43200" bIns="43200" anchor="t">
              <a:spAutoFit/>
            </a:bodyPr>
            <a:p>
              <a:pPr marL="457200" indent="-457200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Gerência de Program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6865920" y="1963800"/>
            <a:ext cx="2735280" cy="31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marL="266760" indent="-266760">
              <a:lnSpc>
                <a:spcPct val="150000"/>
              </a:lnSpc>
              <a:spcBef>
                <a:spcPts val="451"/>
              </a:spcBef>
              <a:buSzPct val="1235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ucos proje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50000"/>
              </a:lnSpc>
              <a:spcBef>
                <a:spcPts val="451"/>
              </a:spcBef>
              <a:buSzPct val="12351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ucratividade associada à produ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50000"/>
              </a:lnSpc>
              <a:spcBef>
                <a:spcPts val="451"/>
              </a:spcBef>
              <a:buSzPct val="12351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arreiras às inova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50000"/>
              </a:lnSpc>
              <a:spcBef>
                <a:spcPts val="451"/>
              </a:spcBef>
              <a:buSzPct val="12351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dutos com longo ciclo de v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75640" y="1224000"/>
            <a:ext cx="2714400" cy="57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ão orientadas a proje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29560" y="6248520"/>
            <a:ext cx="2808000" cy="33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erência do Prod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8080" y="1262160"/>
            <a:ext cx="2714400" cy="33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rientadas a Proje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2000" y="6267600"/>
            <a:ext cx="2808360" cy="33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erência de Proje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5257080" y="5600880"/>
            <a:ext cx="1257480" cy="647640"/>
          </a:xfrm>
          <a:prstGeom prst="leftArrow">
            <a:avLst>
              <a:gd name="adj1" fmla="val 50000"/>
              <a:gd name="adj2" fmla="val 485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94160" y="5737320"/>
            <a:ext cx="125604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Pas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8360" y="1697040"/>
            <a:ext cx="2735280" cy="387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marL="266760" indent="-266760">
              <a:lnSpc>
                <a:spcPct val="120000"/>
              </a:lnSpc>
              <a:spcBef>
                <a:spcPts val="451"/>
              </a:spcBef>
              <a:buSzPct val="12351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Gerente de Projetos tem responsabilidade por lucros e per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20000"/>
              </a:lnSpc>
              <a:spcBef>
                <a:spcPts val="451"/>
              </a:spcBef>
              <a:buSzPct val="12351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Gerência de Projetos é reconhecida como uma profiss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20000"/>
              </a:lnSpc>
              <a:spcBef>
                <a:spcPts val="451"/>
              </a:spcBef>
              <a:buSzPct val="12351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ssibilidades de carreiras múltip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20000"/>
              </a:lnSpc>
              <a:spcBef>
                <a:spcPts val="451"/>
              </a:spcBef>
              <a:buSzPct val="12351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projetos geram luc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38560" y="5619600"/>
            <a:ext cx="1257120" cy="648000"/>
          </a:xfrm>
          <a:prstGeom prst="leftArrow">
            <a:avLst>
              <a:gd name="adj1" fmla="val 50000"/>
              <a:gd name="adj2" fmla="val 48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05160" y="5754600"/>
            <a:ext cx="124452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Pres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61440" y="-38520"/>
            <a:ext cx="8820360" cy="838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</a:rPr>
              <a:t>Relacionamentos com outras Disciplinas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47640" y="1733400"/>
            <a:ext cx="4876920" cy="2800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7320" y="2532240"/>
            <a:ext cx="3792600" cy="6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marL="320760" indent="-32076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onhecimentos e práticas da gerência de projeto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84880" y="2652840"/>
            <a:ext cx="3792600" cy="6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marL="320760" indent="-32076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onhecimentos e práticas das áreas de aplicaçã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86280" y="4792680"/>
            <a:ext cx="3792240" cy="6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marL="320760" indent="-32076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onhecimentos e práticas da gerência ger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64000" y="1739880"/>
            <a:ext cx="4876920" cy="2800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03520" y="3295800"/>
            <a:ext cx="4876920" cy="2800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61440" y="-360"/>
            <a:ext cx="8820360" cy="8002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pt-BR" sz="3400" spc="-1" strike="noStrike">
                <a:solidFill>
                  <a:srgbClr val="000000"/>
                </a:solidFill>
                <a:latin typeface="Arial"/>
              </a:rPr>
              <a:t>Habilidades do Gerente de Projetos</a:t>
            </a: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160" y="123300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marL="476280" indent="-476280">
              <a:lnSpc>
                <a:spcPct val="12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unic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2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ptidões organizaciona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2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laboração de orçame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2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olução de proble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2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egociar e influenci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2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ideranç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2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ormação de equipes e recursos huma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61440" y="-38520"/>
            <a:ext cx="8820360" cy="838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pt-BR" sz="3400" spc="-1" strike="noStrike">
                <a:solidFill>
                  <a:srgbClr val="000000"/>
                </a:solidFill>
                <a:latin typeface="Arial"/>
              </a:rPr>
              <a:t>Partes Envolvidas</a:t>
            </a: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90400" y="1461600"/>
            <a:ext cx="84204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marL="476280" indent="-476280">
              <a:lnSpc>
                <a:spcPct val="14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Gerente do pro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suá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rganização execut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embros da equipe do pro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trocin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61440" y="-38520"/>
            <a:ext cx="8820360" cy="838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pt-BR" sz="3400" spc="-1" strike="noStrike">
                <a:solidFill>
                  <a:srgbClr val="000000"/>
                </a:solidFill>
                <a:latin typeface="Arial"/>
              </a:rPr>
              <a:t>Para Muitas Organizações</a:t>
            </a: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71320" y="1690560"/>
            <a:ext cx="8591400" cy="3772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Gerenciar projeto é a arte de criar a ilusão de que qualquer resultado decorre de uma série de ações deliberadas e predeterminadas quando, de fato, elas decorrem do aca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61440" y="-38520"/>
            <a:ext cx="8820360" cy="838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pt-BR" sz="3400" spc="-1" strike="noStrike">
                <a:solidFill>
                  <a:srgbClr val="000000"/>
                </a:solidFill>
                <a:latin typeface="Arial"/>
              </a:rPr>
              <a:t>Universalidade da Gerência</a:t>
            </a: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1463400"/>
            <a:ext cx="8420400" cy="3352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marL="476280" indent="-387360">
              <a:lnSpc>
                <a:spcPct val="16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erentes de qualquer nível hierárquico executam as mesmas funçõ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387360">
              <a:lnSpc>
                <a:spcPct val="16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 práticas gerenciais, atividades, técnicas e ferramentas dependem do empreendimen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61440" y="-38520"/>
            <a:ext cx="8820360" cy="838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pt-BR" sz="3400" spc="-1" strike="noStrike">
                <a:solidFill>
                  <a:srgbClr val="000000"/>
                </a:solidFill>
                <a:latin typeface="Arial"/>
              </a:rPr>
              <a:t>Gerência de Projeto de Software</a:t>
            </a: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90400" y="1461960"/>
            <a:ext cx="8420400" cy="33148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70% das organizações que desenvolvem software utilizam métodos empíricos e não previsíve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61440" y="-38520"/>
            <a:ext cx="8820360" cy="838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pt-BR" sz="3400" spc="-1" strike="noStrike">
                <a:solidFill>
                  <a:srgbClr val="000000"/>
                </a:solidFill>
                <a:latin typeface="Arial"/>
              </a:rPr>
              <a:t>Sumário</a:t>
            </a: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347480"/>
            <a:ext cx="84204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marL="476280" indent="-476280">
              <a:lnSpc>
                <a:spcPct val="14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ceito de Gerência de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cessos da Gerência de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cessos Orientados ao Prod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ficuldades da Gerência de Projetos de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incípios da Gerência de Projetos de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61440" y="-38520"/>
            <a:ext cx="8820360" cy="838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CHAOS Research</a:t>
            </a: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852480" y="1407960"/>
          <a:ext cx="8067600" cy="506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2480" y="1407960"/>
                    <a:ext cx="806760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2" name=""/>
          <p:cNvGrpSpPr/>
          <p:nvPr/>
        </p:nvGrpSpPr>
        <p:grpSpPr>
          <a:xfrm>
            <a:off x="2286000" y="2514600"/>
            <a:ext cx="1219320" cy="318240"/>
            <a:chOff x="2286000" y="2514600"/>
            <a:chExt cx="1219320" cy="318240"/>
          </a:xfrm>
        </p:grpSpPr>
        <p:sp>
          <p:nvSpPr>
            <p:cNvPr id="263" name=""/>
            <p:cNvSpPr/>
            <p:nvPr/>
          </p:nvSpPr>
          <p:spPr>
            <a:xfrm>
              <a:off x="2286000" y="2514600"/>
              <a:ext cx="1219320" cy="304920"/>
            </a:xfrm>
            <a:prstGeom prst="rect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91280" y="2525760"/>
              <a:ext cx="53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29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1679400" y="2513160"/>
            <a:ext cx="564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92360" y="2514600"/>
            <a:ext cx="914400" cy="316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680280" y="252720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18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394160" y="2521080"/>
            <a:ext cx="2190960" cy="3157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29720" y="251460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5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28200" y="0"/>
            <a:ext cx="8820360" cy="838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pt-BR" sz="3400" spc="-1" strike="noStrike">
                <a:solidFill>
                  <a:srgbClr val="000000"/>
                </a:solidFill>
                <a:latin typeface="Arial"/>
              </a:rPr>
              <a:t>Desenvolvimento e Manutenção de Software</a:t>
            </a: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90400" y="1461600"/>
            <a:ext cx="84204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marL="476280" indent="-476280">
              <a:lnSpc>
                <a:spcPct val="15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jetos complex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5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duto intangí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5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ujeito a mudanç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5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ircunstâncias inesper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5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uitas minú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5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ão há um processo padr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820000" cy="838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pt-BR" sz="3400" spc="-1" strike="noStrike">
                <a:solidFill>
                  <a:srgbClr val="000000"/>
                </a:solidFill>
                <a:latin typeface="Arial"/>
              </a:rPr>
              <a:t>Bases de um Projeto de Software</a:t>
            </a: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1461600"/>
            <a:ext cx="84204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marL="476280" indent="-4762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esso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ces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errament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étr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42680" y="1447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400" spc="-1" strike="noStrike">
                <a:solidFill>
                  <a:srgbClr val="000000"/>
                </a:solidFill>
                <a:latin typeface="Arial"/>
              </a:rPr>
              <a:t>Tipos de Estruturas Organizacionais</a:t>
            </a: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61440" y="-38520"/>
            <a:ext cx="8820360" cy="838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400" spc="-1" strike="noStrike">
                <a:solidFill>
                  <a:srgbClr val="000000"/>
                </a:solidFill>
                <a:latin typeface="Arial"/>
              </a:rPr>
              <a:t>Estruturas Hierárquicas</a:t>
            </a: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040" y="1461600"/>
            <a:ext cx="7905960" cy="337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rganização fun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rganização por pro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rganização matr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61440" y="-38520"/>
            <a:ext cx="8820360" cy="838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400" spc="-1" strike="noStrike">
                <a:solidFill>
                  <a:srgbClr val="000000"/>
                </a:solidFill>
                <a:latin typeface="Arial"/>
              </a:rPr>
              <a:t>Organização Funcional</a:t>
            </a: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90400" y="1790640"/>
            <a:ext cx="8686800" cy="29145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 fontScale="96000"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sidera ser mais fácil gerenciar especialistas se eles estão em um mesmo grupo e se o chefe do departamento possui treinamento e experiência nessa discip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61440" y="-38520"/>
            <a:ext cx="8820360" cy="838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pt-BR" sz="3400" spc="-1" strike="noStrike">
                <a:solidFill>
                  <a:srgbClr val="000000"/>
                </a:solidFill>
                <a:latin typeface="Arial"/>
              </a:rPr>
              <a:t>Estrutura da Organização - Funcional</a:t>
            </a: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63880" y="1303200"/>
            <a:ext cx="2124000" cy="8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ecutivo Che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9960" y="2836800"/>
            <a:ext cx="2211480" cy="8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Gerente Fun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97280" y="2836800"/>
            <a:ext cx="2211480" cy="8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Gerente Fun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194600" y="2836800"/>
            <a:ext cx="2211480" cy="8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Gerente Fun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17120" y="4199040"/>
            <a:ext cx="2194920" cy="47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marL="320760" indent="-3207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mb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133520" y="4199040"/>
            <a:ext cx="2194920" cy="470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marL="320760" indent="-3207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mb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492680" y="4199040"/>
            <a:ext cx="2194920" cy="47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marL="320760" indent="-3207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mb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04520" y="5100480"/>
            <a:ext cx="2194920" cy="470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marL="320760" indent="-3207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mb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20920" y="5100480"/>
            <a:ext cx="2194920" cy="470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marL="320760" indent="-3207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mb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480080" y="5100480"/>
            <a:ext cx="2194920" cy="470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marL="320760" indent="-3207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mb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91920" y="6002280"/>
            <a:ext cx="2194920" cy="47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marL="320760" indent="-3207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mb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07960" y="6002280"/>
            <a:ext cx="2194920" cy="47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marL="320760" indent="-3207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mb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467120" y="6002280"/>
            <a:ext cx="2194920" cy="47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marL="320760" indent="-3207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mb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52280" y="2438280"/>
            <a:ext cx="9563400" cy="15051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66720" y="36957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5800" y="6229440"/>
            <a:ext cx="28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840" bIns="-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66720" y="529596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840" bIns="-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441972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840" bIns="-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83120" y="370188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02200" y="6235560"/>
            <a:ext cx="28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840" bIns="-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083120" y="530208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840" bIns="-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102200" y="442584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840" bIns="-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42280" y="37083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461360" y="6242040"/>
            <a:ext cx="28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840" bIns="-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42280" y="530856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840" bIns="-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461360" y="443232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840" bIns="-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134200" y="1866960"/>
            <a:ext cx="0" cy="70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091280" y="1258920"/>
            <a:ext cx="209412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ordenação do 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933800" y="2152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86080" y="2533680"/>
            <a:ext cx="693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840" bIns="-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486080" y="2552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933800" y="255276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439120" y="2533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61440" y="-38520"/>
            <a:ext cx="8820360" cy="838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400" spc="-1" strike="noStrike">
                <a:solidFill>
                  <a:srgbClr val="000000"/>
                </a:solidFill>
                <a:latin typeface="Arial"/>
              </a:rPr>
              <a:t>Organização Funcional</a:t>
            </a: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61760" y="1486080"/>
            <a:ext cx="8343720" cy="44193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66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onto forte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ntraliza recursos simil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spcBef>
                <a:spcPts val="700"/>
              </a:spcBef>
              <a:buClr>
                <a:srgbClr val="cc0066"/>
              </a:buClr>
              <a:buSzPct val="90000"/>
              <a:buFont typeface="Wingdings 2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ontos fracos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urgem conflitos quando é envolvida em múltiplos projetos; cada departamento prioriza suas atividades, ao invés dos objetivos do projeto; falta de motivação e inér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61440" y="-38520"/>
            <a:ext cx="8820360" cy="838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400" spc="-1" strike="noStrike">
                <a:solidFill>
                  <a:srgbClr val="000000"/>
                </a:solidFill>
                <a:latin typeface="Arial"/>
              </a:rPr>
              <a:t>Organização por projeto</a:t>
            </a: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23600" y="131400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rutura agrega todos os recursos necessários à execução do proje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erente possui autoridade sobre o projeto e pode obter recursos internos e externos à organiz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oda a equipe é subordinada diretamente ao gerente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rutura temporária e com objetivo especí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ternamente possui uma estrutura fun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61440" y="-38520"/>
            <a:ext cx="8820360" cy="838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pt-BR" sz="3400" spc="-1" strike="noStrike">
                <a:solidFill>
                  <a:srgbClr val="000000"/>
                </a:solidFill>
                <a:latin typeface="Arial"/>
              </a:rPr>
              <a:t>Estrutura da Organização - Projetizada</a:t>
            </a: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863880" y="1303200"/>
            <a:ext cx="2124000" cy="8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ecutivo Che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99960" y="2836800"/>
            <a:ext cx="2211480" cy="8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Gerente de Proj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97280" y="2836800"/>
            <a:ext cx="2211480" cy="8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Gerente de Proj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194600" y="2836800"/>
            <a:ext cx="2211480" cy="8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Gerente de Proj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17120" y="4199040"/>
            <a:ext cx="2194920" cy="470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marL="320760" indent="-3207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mb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133520" y="4199040"/>
            <a:ext cx="2194920" cy="470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marL="320760" indent="-3207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mb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492680" y="4199040"/>
            <a:ext cx="2194920" cy="470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marL="320760" indent="-3207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mb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04520" y="5100480"/>
            <a:ext cx="2194920" cy="470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marL="320760" indent="-3207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mb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120920" y="5100480"/>
            <a:ext cx="2194920" cy="470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marL="320760" indent="-3207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mb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480080" y="5100480"/>
            <a:ext cx="2194920" cy="470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marL="320760" indent="-3207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mb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91920" y="6002280"/>
            <a:ext cx="2194920" cy="470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marL="320760" indent="-3207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mb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107960" y="6002280"/>
            <a:ext cx="2194920" cy="470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marL="320760" indent="-3207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mb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467120" y="6002280"/>
            <a:ext cx="2194920" cy="470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marL="320760" indent="-3207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mb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66720" y="36957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5800" y="6229440"/>
            <a:ext cx="28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840" bIns="-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66720" y="529596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840" bIns="-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85800" y="441972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840" bIns="-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083120" y="370188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02200" y="6235560"/>
            <a:ext cx="28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840" bIns="-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083120" y="530208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840" bIns="-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02200" y="442584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840" bIns="-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442280" y="37083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461360" y="6242040"/>
            <a:ext cx="28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840" bIns="-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442280" y="530856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840" bIns="-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461360" y="443232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840" bIns="-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33800" y="2152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4920" y="2381400"/>
            <a:ext cx="2495520" cy="4286160"/>
          </a:xfrm>
          <a:custGeom>
            <a:avLst/>
            <a:gdLst>
              <a:gd name="textAreaLeft" fmla="*/ 121680 w 2495520"/>
              <a:gd name="textAreaRight" fmla="*/ 2373840 w 2495520"/>
              <a:gd name="textAreaTop" fmla="*/ 121680 h 4286160"/>
              <a:gd name="textAreaBottom" fmla="*/ 4164480 h 4286160"/>
            </a:gdLst>
            <a:ahLst/>
            <a:rect l="textAreaLeft" t="textAreaTop" r="textAreaRight" b="textAreaBottom"/>
            <a:pathLst>
              <a:path w="21600" h="37097">
                <a:moveTo>
                  <a:pt x="3600" y="0"/>
                </a:moveTo>
                <a:arcTo wR="3600" hR="3600" stAng="16200000" swAng="-5400000"/>
                <a:lnTo>
                  <a:pt x="0" y="33497"/>
                </a:lnTo>
                <a:arcTo wR="3600" hR="3600" stAng="10800000" swAng="-5400000"/>
                <a:lnTo>
                  <a:pt x="18000" y="370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486080" y="2533680"/>
            <a:ext cx="693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840" bIns="-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486080" y="2552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933800" y="255276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439120" y="2533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486080" y="1695600"/>
            <a:ext cx="0" cy="70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2800" y="1087560"/>
            <a:ext cx="209412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ordenação do 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2680" y="17712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Conceito de gerência de projeto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61440" y="-38520"/>
            <a:ext cx="8820360" cy="838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400" spc="-1" strike="noStrike">
                <a:solidFill>
                  <a:srgbClr val="000000"/>
                </a:solidFill>
                <a:latin typeface="Arial"/>
              </a:rPr>
              <a:t>Organização por projeto</a:t>
            </a: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23600" y="131400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6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nto forte: unidade de propósito e de comando; é desenvolvido um espírito de equipe; comunicação informal é eficaz e o gerente tem sob seu controle todos os recursos necessá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0066"/>
              </a:buClr>
              <a:buSzPct val="90000"/>
              <a:buFont typeface="Wingdings 2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ntos fracos: estruturas temporárias perturbam a organização regular; facilidades são duplicadas e os recursos são utilizados de forma ineficiente; insegurança das pessoas por perder seu cargo na estrutura funcio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61440" y="-38520"/>
            <a:ext cx="8820360" cy="838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400" spc="-1" strike="noStrike">
                <a:solidFill>
                  <a:srgbClr val="000000"/>
                </a:solidFill>
                <a:latin typeface="Arial"/>
              </a:rPr>
              <a:t>Organizações Funcionais e por Projeto </a:t>
            </a: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61760" y="1390680"/>
            <a:ext cx="8420040" cy="3448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problema dessas estruturas é balancear os objetivos de longo prazo dos departamentos funcionais, em desenvolver conhecimentos técnicos, com  os objetivos de curto prazo dos proje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61440" y="-38520"/>
            <a:ext cx="8820360" cy="838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400" spc="-1" strike="noStrike">
                <a:solidFill>
                  <a:srgbClr val="000000"/>
                </a:solidFill>
                <a:latin typeface="Arial"/>
              </a:rPr>
              <a:t>Organização Matricial</a:t>
            </a: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1760" y="1504800"/>
            <a:ext cx="8420040" cy="390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strutura multidimensional que tenta maximizar os pontos fortes e minimizar os pontos fracos das organizações funcionais e por projeto. Combina a hierarquia vertical com uma estrutura horizo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61440" y="-38520"/>
            <a:ext cx="8820360" cy="838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pt-BR" sz="3400" spc="-1" strike="noStrike">
                <a:solidFill>
                  <a:srgbClr val="000000"/>
                </a:solidFill>
                <a:latin typeface="Arial"/>
              </a:rPr>
              <a:t>Estrutura da Organização - Matricial</a:t>
            </a: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863880" y="1303200"/>
            <a:ext cx="2124000" cy="8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ecutivo Che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9960" y="2836800"/>
            <a:ext cx="2211480" cy="8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Gerente Fun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797280" y="2836800"/>
            <a:ext cx="2211480" cy="8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Gerente Fun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194600" y="2836800"/>
            <a:ext cx="2211480" cy="8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Gerente Fun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37640" y="4206960"/>
            <a:ext cx="2000160" cy="41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marL="320760" indent="-3207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mb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34960" y="4187880"/>
            <a:ext cx="2000160" cy="41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marL="320760" indent="-3207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mb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13200" y="4187880"/>
            <a:ext cx="2000160" cy="41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marL="320760" indent="-3207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mb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25040" y="5108400"/>
            <a:ext cx="2000160" cy="41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marL="320760" indent="-3207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mb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122000" y="5089680"/>
            <a:ext cx="2000160" cy="41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marL="320760" indent="-3207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mb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500240" y="5089680"/>
            <a:ext cx="2000160" cy="41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marL="320760" indent="-3207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mb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04520" y="5991120"/>
            <a:ext cx="3525480" cy="41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marL="320760" indent="-3207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Gerente de pro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090320" y="5991120"/>
            <a:ext cx="2000160" cy="41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marL="320760" indent="-3207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mb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487640" y="5991120"/>
            <a:ext cx="2000160" cy="41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marL="320760" indent="-3207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mb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43080" y="5772240"/>
            <a:ext cx="9334440" cy="8571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66720" y="36957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" y="6210360"/>
            <a:ext cx="28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840" bIns="-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6720" y="529596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840" bIns="-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5800" y="441972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840" bIns="-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083120" y="370188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083120" y="6235560"/>
            <a:ext cx="28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840" bIns="-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083120" y="530208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840" bIns="-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102200" y="442584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840" bIns="-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442280" y="37083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461360" y="6242040"/>
            <a:ext cx="28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840" bIns="-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442280" y="530856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840" bIns="-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461360" y="443232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840" bIns="-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76720" y="5067360"/>
            <a:ext cx="0" cy="70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157480" y="4573440"/>
            <a:ext cx="209376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ordenação do 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933800" y="2152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486080" y="2533680"/>
            <a:ext cx="693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840" bIns="-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486080" y="2552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933800" y="255276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439120" y="2533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61440" y="-38520"/>
            <a:ext cx="8820360" cy="838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400" spc="-1" strike="noStrike">
                <a:solidFill>
                  <a:srgbClr val="000000"/>
                </a:solidFill>
                <a:latin typeface="Arial"/>
              </a:rPr>
              <a:t>Organização Matricial</a:t>
            </a: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99920" y="1447560"/>
            <a:ext cx="8420040" cy="4228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6699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ntos fortes: balanceamento de objetivos; coordenação através departamentos funcionais de linha; visibilidade do objetivo do projeto no escritório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61440" y="-38520"/>
            <a:ext cx="8820360" cy="838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400" spc="-1" strike="noStrike">
                <a:solidFill>
                  <a:srgbClr val="000000"/>
                </a:solidFill>
                <a:latin typeface="Arial"/>
              </a:rPr>
              <a:t>Organização Matricial</a:t>
            </a: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42680" y="1561680"/>
            <a:ext cx="8420040" cy="44197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0066"/>
              </a:buClr>
              <a:buSzPct val="90000"/>
              <a:buFont typeface="Wingdings 2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ntos fracos: </a:t>
            </a:r>
            <a:r>
              <a:rPr b="0" lang="pt-BR" sz="2800" spc="-1" strike="noStrike">
                <a:solidFill>
                  <a:srgbClr val="cc0066"/>
                </a:solidFill>
                <a:latin typeface="Arial"/>
              </a:rPr>
              <a:t>dupla subordinação; gerente do projeto tem pouca autoridade; gerentes funcionais julgam que o coordenador de projeto interfere em seu território.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2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solução é definir muito bem responsabilida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2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Coordenador do Projeto especifica o que deve ser fe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2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departamentos funcionais execut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61440" y="-38520"/>
            <a:ext cx="8820360" cy="838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400" spc="-1" strike="noStrike">
                <a:solidFill>
                  <a:srgbClr val="000000"/>
                </a:solidFill>
                <a:latin typeface="Arial"/>
              </a:rPr>
              <a:t>Relações na Organização Matricial</a:t>
            </a: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624480" y="1282680"/>
            <a:ext cx="1950120" cy="429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Gerente Ger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45960" y="1887480"/>
            <a:ext cx="1617840" cy="764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Gerente de Proje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089840" y="1887480"/>
            <a:ext cx="1522440" cy="764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Gerente Func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1680" y="2666880"/>
            <a:ext cx="0" cy="165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46080" y="3249720"/>
            <a:ext cx="1676520" cy="764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Gerente do Projeto 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832440" y="3249720"/>
            <a:ext cx="2038680" cy="764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presentante do Projeto A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398960" y="4421160"/>
            <a:ext cx="8085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024600" y="4325760"/>
            <a:ext cx="169236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erente de Unidades de Trabal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967520" y="4344840"/>
            <a:ext cx="169236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erente de Unidades de Trabal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610000" y="3257640"/>
            <a:ext cx="422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629080" y="4019400"/>
            <a:ext cx="42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629080" y="3657600"/>
            <a:ext cx="42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000240" y="2863800"/>
            <a:ext cx="348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que (plano do proje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14440" y="3630600"/>
            <a:ext cx="30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nto (plano financei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797200" y="3249720"/>
            <a:ext cx="389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ndo (cronograma do proje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962000" y="2281320"/>
            <a:ext cx="512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610160" y="1714680"/>
            <a:ext cx="0" cy="57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571680" y="361944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886880" y="401940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896160" y="4172040"/>
            <a:ext cx="2000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77080" y="41720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896320" y="4172040"/>
            <a:ext cx="0" cy="17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134040" y="5581800"/>
            <a:ext cx="171360" cy="17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458040" y="5581800"/>
            <a:ext cx="171360" cy="17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781680" y="5581800"/>
            <a:ext cx="171720" cy="17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105680" y="5581800"/>
            <a:ext cx="171360" cy="17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429680" y="5581800"/>
            <a:ext cx="171360" cy="17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753320" y="5581800"/>
            <a:ext cx="171360" cy="17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077320" y="5581800"/>
            <a:ext cx="171360" cy="17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400960" y="5581800"/>
            <a:ext cx="171720" cy="17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724960" y="5581800"/>
            <a:ext cx="171360" cy="17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048600" y="5581800"/>
            <a:ext cx="171720" cy="17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9372600" y="5581800"/>
            <a:ext cx="171360" cy="17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114960" y="5952960"/>
            <a:ext cx="171720" cy="171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440400" y="5952960"/>
            <a:ext cx="171360" cy="171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765840" y="5952960"/>
            <a:ext cx="171360" cy="171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091280" y="5952960"/>
            <a:ext cx="171360" cy="171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416720" y="5952960"/>
            <a:ext cx="171360" cy="171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743960" y="5952960"/>
            <a:ext cx="171360" cy="171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069400" y="5952960"/>
            <a:ext cx="171360" cy="171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394840" y="5952960"/>
            <a:ext cx="171360" cy="171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720280" y="5952960"/>
            <a:ext cx="171360" cy="171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9045720" y="5952960"/>
            <a:ext cx="171360" cy="171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372600" y="5952960"/>
            <a:ext cx="171360" cy="171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809720" y="4019400"/>
            <a:ext cx="0" cy="4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71680" y="4305240"/>
            <a:ext cx="0" cy="514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599160" y="6145200"/>
            <a:ext cx="240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ssoal execu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5676840" y="4533480"/>
            <a:ext cx="0" cy="146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4609800" y="4933800"/>
            <a:ext cx="106668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618800" y="458316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2095560" y="2438280"/>
            <a:ext cx="0" cy="64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232000" y="26208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180520" y="256392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867800" y="2666880"/>
            <a:ext cx="0" cy="59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734240" y="2602080"/>
            <a:ext cx="178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o fazer bem fe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71516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010800" y="3467160"/>
            <a:ext cx="0" cy="571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975880" y="35352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61440" y="-38520"/>
            <a:ext cx="8820360" cy="838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400" spc="-1" strike="noStrike">
                <a:solidFill>
                  <a:srgbClr val="000000"/>
                </a:solidFill>
                <a:latin typeface="Arial"/>
              </a:rPr>
              <a:t>Relações na Organização Matricial</a:t>
            </a: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729160" y="1454040"/>
            <a:ext cx="1950120" cy="429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Gerente Ger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27200" y="2058840"/>
            <a:ext cx="1617480" cy="764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Gerente de Proje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98400" y="3878280"/>
            <a:ext cx="1676520" cy="764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Gerente do Projeto 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151280" y="5450040"/>
            <a:ext cx="8085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343240" y="2452680"/>
            <a:ext cx="139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714840" y="1886040"/>
            <a:ext cx="0" cy="57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562040" y="4648320"/>
            <a:ext cx="0" cy="81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612880" y="27925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523880" y="2838600"/>
            <a:ext cx="0" cy="104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908440" y="2125800"/>
            <a:ext cx="631944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. Dirige a avalia as atividades de gerê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. Planeja, propõe, e implementa políticas de gerê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. Assegura que os compromissos sejam cumpr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636640" y="3706920"/>
            <a:ext cx="600084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. Elabora e mantém o plano do 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. Fornece diretrizes para orçamento e cron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. Avalia e reporta o desempenho do 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151720" y="5459400"/>
            <a:ext cx="527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uxilia no planejamento e controle do 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61440" y="-38520"/>
            <a:ext cx="8820360" cy="838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400" spc="-1" strike="noStrike">
                <a:solidFill>
                  <a:srgbClr val="000000"/>
                </a:solidFill>
                <a:latin typeface="Arial"/>
              </a:rPr>
              <a:t>Relações na Organização Matricial</a:t>
            </a: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76200" y="1282680"/>
            <a:ext cx="1984320" cy="429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Gerente Ger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041560" y="2001960"/>
            <a:ext cx="1533600" cy="764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Gerente Func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784520" y="3363840"/>
            <a:ext cx="2054160" cy="764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presentante do Projeto A*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062080" y="4745160"/>
            <a:ext cx="170496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erente de Unidades de Trabal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390680" y="2281320"/>
            <a:ext cx="65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371600" y="1714680"/>
            <a:ext cx="1440" cy="57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838600" y="4133880"/>
            <a:ext cx="14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819520" y="2781360"/>
            <a:ext cx="1440" cy="59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24280" y="1211400"/>
            <a:ext cx="5719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. Cumprir prazos e cu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. Diretrizes funcion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. Prover pessoal com a qualificação adequ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4. Manutenção da excelência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176720" y="3002040"/>
            <a:ext cx="5386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nto focal de todas as atividades do projeto A na organização funcional. Canaliza os esforços para execução das atividades do projeto. Planeja e controla os recursos alocados ao 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847680" y="4716360"/>
            <a:ext cx="5970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. Executa as a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. Determina orientações técn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.Detalha os cronogramas e orça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4. Controla e reporta o desempenho das a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152800" y="6000840"/>
            <a:ext cx="171360" cy="17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476440" y="6000840"/>
            <a:ext cx="171360" cy="17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800440" y="6000840"/>
            <a:ext cx="171360" cy="17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6000840"/>
            <a:ext cx="171720" cy="17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448080" y="6000840"/>
            <a:ext cx="171360" cy="17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133720" y="6372360"/>
            <a:ext cx="171360" cy="17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459160" y="6372360"/>
            <a:ext cx="171360" cy="17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784600" y="6372360"/>
            <a:ext cx="171360" cy="17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110040" y="6372360"/>
            <a:ext cx="171360" cy="17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435480" y="6372360"/>
            <a:ext cx="171360" cy="17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47240" y="0"/>
            <a:ext cx="8286840" cy="8380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</a:rPr>
              <a:t>Características das Estruturas Organizacionais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57200" y="1257480"/>
            <a:ext cx="9048600" cy="520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ctr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1962000"/>
            <a:ext cx="904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840" bIns="-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57200" y="2743200"/>
            <a:ext cx="904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840" bIns="-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57200" y="3651120"/>
            <a:ext cx="904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840" bIns="-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57200" y="4559400"/>
            <a:ext cx="904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840" bIns="-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57200" y="5467320"/>
            <a:ext cx="904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840" bIns="-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724120" y="1276200"/>
            <a:ext cx="0" cy="520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971960" y="1276200"/>
            <a:ext cx="0" cy="520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277040" y="1276200"/>
            <a:ext cx="0" cy="520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76280" y="1276200"/>
            <a:ext cx="2266920" cy="6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363680" y="1268280"/>
            <a:ext cx="1928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rganiz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68360" y="1687680"/>
            <a:ext cx="1928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059280" y="1436760"/>
            <a:ext cx="145224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un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154480" y="1268280"/>
            <a:ext cx="1928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tr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quilib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574040" y="1434960"/>
            <a:ext cx="14526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jetiz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68360" y="2008080"/>
            <a:ext cx="2328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utoridade 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erente do 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68360" y="2732040"/>
            <a:ext cx="22525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locaçã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ssoal em t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g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68360" y="3760920"/>
            <a:ext cx="2252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locação 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erente do 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68360" y="4676760"/>
            <a:ext cx="2252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signação 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erente do 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68360" y="5475240"/>
            <a:ext cx="238608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u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dministrativo a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erente do 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173400" y="2008080"/>
            <a:ext cx="1338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uca 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nhu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345280" y="2027160"/>
            <a:ext cx="14522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aixa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ode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593120" y="2160720"/>
            <a:ext cx="14526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lta a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944800" y="2865600"/>
            <a:ext cx="17002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irtual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nh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288040" y="3017880"/>
            <a:ext cx="170028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5 – 6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535880" y="3017880"/>
            <a:ext cx="170028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85 – 10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963880" y="3760920"/>
            <a:ext cx="17002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mp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268960" y="3741840"/>
            <a:ext cx="17002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mp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g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74040" y="3722760"/>
            <a:ext cx="17002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mp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g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868480" y="4646520"/>
            <a:ext cx="1947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ordenador/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í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925880" y="4646520"/>
            <a:ext cx="2328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erente/diretor 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269120" y="4646520"/>
            <a:ext cx="2233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erente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jeto/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021120" y="5627520"/>
            <a:ext cx="17002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mp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288040" y="5589720"/>
            <a:ext cx="17002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mp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593120" y="5608800"/>
            <a:ext cx="17002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mp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g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1440" y="-38520"/>
            <a:ext cx="8820360" cy="838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pt-BR" sz="3400" spc="-1" strike="noStrike">
                <a:solidFill>
                  <a:srgbClr val="000000"/>
                </a:solidFill>
                <a:latin typeface="Arial"/>
              </a:rPr>
              <a:t>Trabalho nas Organizações</a:t>
            </a: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31120" y="1827360"/>
            <a:ext cx="490176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marL="320760" indent="-3207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perações Continu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tínuas e re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85200" y="1827360"/>
            <a:ext cx="345708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marL="320760" indent="-3207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roje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emporários e ún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74800" y="3894120"/>
            <a:ext cx="5024520" cy="17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1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ecutados por pesso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ecursos limi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lanejados, executados e control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57400" y="3333600"/>
            <a:ext cx="6076800" cy="2781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934320" y="2838600"/>
            <a:ext cx="36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3047760" y="2914200"/>
            <a:ext cx="3236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23600" y="1885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pt-BR" sz="3400" spc="-1" strike="noStrike">
                <a:solidFill>
                  <a:srgbClr val="000000"/>
                </a:solidFill>
                <a:latin typeface="Arial"/>
              </a:rPr>
              <a:t>Dificuldades da Gerência de Projetos de Software</a:t>
            </a: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61440" y="-38520"/>
            <a:ext cx="8820360" cy="838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</a:rPr>
              <a:t>Dificuldades para Planejar Projetos de Software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1461600"/>
            <a:ext cx="84204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marL="476280" indent="-476280">
              <a:lnSpc>
                <a:spcPct val="14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requisitos do software freqüentemente estão incorretos e incomple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 especificações de requisitos são instáveis e requerem freqüentes mudanç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lanos não são seguidos, sob o argumento errôneo de que desperdiçam tempo e são muito modific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61440" y="-38520"/>
            <a:ext cx="8820360" cy="838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</a:rPr>
              <a:t>Dificuldades para Planejar Projetos de Software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90400" y="1461600"/>
            <a:ext cx="84204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marL="476280" indent="-47628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ronogramas e orçamentos são baseados em necessidades do mercado e não em requisit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É difícil estimar a complexidade e tamanho do softwar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ustos e cronograma não são revistos quando os requisitos ou ambiente de desenvolvimento mud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spcBef>
                <a:spcPts val="751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61440" y="-38520"/>
            <a:ext cx="8820360" cy="838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</a:rPr>
              <a:t>Dificuldades para Organizar Projetos de Software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90400" y="1309680"/>
            <a:ext cx="8420400" cy="5143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marL="476280" indent="-4762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É difícil determinar a melhor estrutura organizacional para uma organização e/ou amb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estrutura organizacional pode deixar de definir responsabilidades ou definir de maneira não muito cla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estrutura matricial não é bem aceita pelo pessoal de desenvolvimento de soft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á a expectativa de que os líderes de equipe possam executar tanto atividades técnicas quanto gerencia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61440" y="-38520"/>
            <a:ext cx="8820360" cy="838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Dificuldades para Selecionar Pessoa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66360" y="127116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marL="476280" indent="-476280">
              <a:lnSpc>
                <a:spcPct val="15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erentes são selecionados dentre os que melhor programam ou executam atividades técn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5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produtividade varia entre indivídu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5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rotatividade de pessoal de desenvolvimento é elev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5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universidades não estão formando profissionais em quantidade sufic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5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lanos individuais de treinamento não são elaborados ou mant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61440" y="-38520"/>
            <a:ext cx="8820360" cy="838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</a:rPr>
              <a:t>Dificuldades para Dirigir Projetos de Software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90400" y="1461600"/>
            <a:ext cx="84204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marL="476280" indent="-476280">
              <a:lnSpc>
                <a:spcPct val="13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 comunicação em um projeto é falh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3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Dinheiro não motiva pessoal de informátic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3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rganizações e gerentes não possuem os instrumentos adequados para motivar as pesso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3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lientes e gerentes não reconhecem o impacto de mudanç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61440" y="-38520"/>
            <a:ext cx="8820360" cy="838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Dificuldades para Controlar Projetos de Softwar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09480" y="1347480"/>
            <a:ext cx="84204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 fontScale="98000"/>
          </a:bodyPr>
          <a:p>
            <a:pPr marL="466560" indent="-466560">
              <a:lnSpc>
                <a:spcPct val="140000"/>
              </a:lnSpc>
              <a:spcBef>
                <a:spcPts val="649"/>
              </a:spcBef>
              <a:buSzPct val="114036"/>
              <a:buBlip>
                <a:blip r:embed="rId1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 controle é baseado em despesas e não em trabalho realiz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lnSpc>
                <a:spcPct val="140000"/>
              </a:lnSpc>
              <a:spcBef>
                <a:spcPts val="649"/>
              </a:spcBef>
              <a:buSzPct val="114036"/>
              <a:buBlip>
                <a:blip r:embed="rId2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É difícil medir o progresso de um proje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lnSpc>
                <a:spcPct val="140000"/>
              </a:lnSpc>
              <a:spcBef>
                <a:spcPts val="649"/>
              </a:spcBef>
              <a:buSzPct val="114036"/>
              <a:buBlip>
                <a:blip r:embed="rId3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Qualidade não é definida e nem controla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lnSpc>
                <a:spcPct val="140000"/>
              </a:lnSpc>
              <a:spcBef>
                <a:spcPts val="649"/>
              </a:spcBef>
              <a:buSzPct val="114036"/>
              <a:buBlip>
                <a:blip r:embed="rId4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adrões técnicos e gerenciais não são definidos e quando são não são utilizad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6560" indent="-466560">
              <a:lnSpc>
                <a:spcPct val="140000"/>
              </a:lnSpc>
              <a:spcBef>
                <a:spcPts val="649"/>
              </a:spcBef>
              <a:buSzPct val="114036"/>
              <a:buBlip>
                <a:blip r:embed="rId5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 conhecimento sobre métricas ainda não está completamente desenvolvi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6656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61440" y="-38520"/>
            <a:ext cx="8820360" cy="838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pt-BR" sz="3400" spc="-1" strike="noStrike">
                <a:solidFill>
                  <a:srgbClr val="000000"/>
                </a:solidFill>
                <a:latin typeface="Arial"/>
              </a:rPr>
              <a:t>Princípios da Gerência Moderna</a:t>
            </a: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61760" y="146016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marL="476280" indent="-4762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tilize abordagens centradas em arquiteturas </a:t>
            </a:r>
            <a:r>
              <a:rPr b="0" lang="pt-BR" sz="2800" spc="-1" strike="noStrike">
                <a:solidFill>
                  <a:srgbClr val="000099"/>
                </a:solidFill>
                <a:latin typeface="Arial"/>
              </a:rPr>
              <a:t>(elemento central do projet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fina processos iterativos </a:t>
            </a:r>
            <a:r>
              <a:rPr b="0" lang="pt-BR" sz="2800" spc="-1" strike="noStrike">
                <a:solidFill>
                  <a:srgbClr val="000099"/>
                </a:solidFill>
                <a:latin typeface="Arial"/>
              </a:rPr>
              <a:t>(elemento de gerência de risc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aça desenvolvimentos orientados a componentes </a:t>
            </a:r>
            <a:r>
              <a:rPr b="0" lang="pt-BR" sz="2800" spc="-1" strike="noStrike">
                <a:solidFill>
                  <a:srgbClr val="000099"/>
                </a:solidFill>
                <a:latin typeface="Arial"/>
              </a:rPr>
              <a:t>(elemento tecnológic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abeleça um ambiente de gerência de mudanças </a:t>
            </a:r>
            <a:r>
              <a:rPr b="0" lang="pt-BR" sz="2800" spc="-1" strike="noStrike">
                <a:solidFill>
                  <a:srgbClr val="000099"/>
                </a:solidFill>
                <a:latin typeface="Arial"/>
              </a:rPr>
              <a:t>(elemento de contro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499"/>
              </a:spcBef>
              <a:buSzPct val="105842"/>
              <a:buBlip>
                <a:blip r:embed="rId5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tilize ferramentas que favoreçam as mudanças </a:t>
            </a:r>
            <a:r>
              <a:rPr b="0" lang="pt-BR" sz="2800" spc="-1" strike="noStrike">
                <a:solidFill>
                  <a:srgbClr val="000099"/>
                </a:solidFill>
                <a:latin typeface="Arial"/>
              </a:rPr>
              <a:t>(elemento de automação)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61440" y="-38520"/>
            <a:ext cx="8820360" cy="838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pt-BR" sz="3400" spc="-1" strike="noStrike">
                <a:solidFill>
                  <a:srgbClr val="000000"/>
                </a:solidFill>
                <a:latin typeface="Arial"/>
              </a:rPr>
              <a:t>O Antigo</a:t>
            </a: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1695600" y="180972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695600" y="5467320"/>
            <a:ext cx="758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924200" y="2305080"/>
            <a:ext cx="6630840" cy="2971800"/>
          </a:xfrm>
          <a:custGeom>
            <a:avLst/>
            <a:gdLst/>
            <a:ahLst/>
            <a:rect l="l" t="t" r="r" b="b"/>
            <a:pathLst>
              <a:path w="4176" h="1872">
                <a:moveTo>
                  <a:pt x="0" y="1872"/>
                </a:moveTo>
                <a:lnTo>
                  <a:pt x="192" y="84"/>
                </a:lnTo>
                <a:lnTo>
                  <a:pt x="288" y="12"/>
                </a:lnTo>
                <a:lnTo>
                  <a:pt x="408" y="0"/>
                </a:lnTo>
                <a:lnTo>
                  <a:pt x="468" y="48"/>
                </a:lnTo>
                <a:lnTo>
                  <a:pt x="504" y="156"/>
                </a:lnTo>
                <a:lnTo>
                  <a:pt x="948" y="1692"/>
                </a:lnTo>
                <a:cubicBezTo>
                  <a:pt x="1217" y="1740"/>
                  <a:pt x="1508" y="1726"/>
                  <a:pt x="1752" y="1848"/>
                </a:cubicBezTo>
                <a:lnTo>
                  <a:pt x="3060" y="1800"/>
                </a:lnTo>
                <a:lnTo>
                  <a:pt x="3744" y="1320"/>
                </a:lnTo>
                <a:lnTo>
                  <a:pt x="3924" y="960"/>
                </a:lnTo>
                <a:lnTo>
                  <a:pt x="4176" y="336"/>
                </a:lnTo>
              </a:path>
            </a:pathLst>
          </a:custGeom>
          <a:noFill/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561040" y="1941480"/>
            <a:ext cx="19263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Análise e Projet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597200" y="4551480"/>
            <a:ext cx="14353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Manutençã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788240" y="5713560"/>
            <a:ext cx="8823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Temp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8160" y="2246400"/>
            <a:ext cx="7862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Cust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541200" y="2303640"/>
            <a:ext cx="27673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ubstituição do Softwar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61440" y="-38520"/>
            <a:ext cx="8820360" cy="838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pt-BR" sz="3400" spc="-1" strike="noStrike">
                <a:solidFill>
                  <a:srgbClr val="000000"/>
                </a:solidFill>
                <a:latin typeface="Arial"/>
              </a:rPr>
              <a:t>O Novo</a:t>
            </a: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1809720" y="17334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809720" y="5391000"/>
            <a:ext cx="758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408400" y="2379600"/>
            <a:ext cx="19263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Análise e Projet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178320" y="3236760"/>
            <a:ext cx="143532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Manutençã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902720" y="5637240"/>
            <a:ext cx="8823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Temp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93360" y="2170080"/>
            <a:ext cx="7862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Cust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962000" y="2876400"/>
            <a:ext cx="7277400" cy="2286000"/>
          </a:xfrm>
          <a:custGeom>
            <a:avLst/>
            <a:gdLst/>
            <a:ahLst/>
            <a:rect l="l" t="t" r="r" b="b"/>
            <a:pathLst>
              <a:path w="4584" h="1440">
                <a:moveTo>
                  <a:pt x="0" y="1440"/>
                </a:moveTo>
                <a:cubicBezTo>
                  <a:pt x="71" y="1369"/>
                  <a:pt x="108" y="1264"/>
                  <a:pt x="108" y="1164"/>
                </a:cubicBezTo>
                <a:lnTo>
                  <a:pt x="576" y="144"/>
                </a:lnTo>
                <a:lnTo>
                  <a:pt x="756" y="0"/>
                </a:lnTo>
                <a:lnTo>
                  <a:pt x="1116" y="132"/>
                </a:lnTo>
                <a:lnTo>
                  <a:pt x="1452" y="324"/>
                </a:lnTo>
                <a:lnTo>
                  <a:pt x="3024" y="576"/>
                </a:lnTo>
                <a:lnTo>
                  <a:pt x="3324" y="540"/>
                </a:lnTo>
                <a:lnTo>
                  <a:pt x="3552" y="540"/>
                </a:lnTo>
                <a:lnTo>
                  <a:pt x="3744" y="540"/>
                </a:lnTo>
                <a:lnTo>
                  <a:pt x="3912" y="504"/>
                </a:lnTo>
                <a:lnTo>
                  <a:pt x="3984" y="504"/>
                </a:lnTo>
                <a:lnTo>
                  <a:pt x="4584" y="540"/>
                </a:lnTo>
              </a:path>
            </a:pathLst>
          </a:cu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981080" y="3562200"/>
            <a:ext cx="3409920" cy="1581480"/>
          </a:xfrm>
          <a:custGeom>
            <a:avLst/>
            <a:gdLst/>
            <a:ahLst/>
            <a:rect l="l" t="t" r="r" b="b"/>
            <a:pathLst>
              <a:path w="2124" h="1020">
                <a:moveTo>
                  <a:pt x="0" y="1020"/>
                </a:moveTo>
                <a:lnTo>
                  <a:pt x="288" y="720"/>
                </a:lnTo>
                <a:lnTo>
                  <a:pt x="600" y="456"/>
                </a:lnTo>
                <a:lnTo>
                  <a:pt x="864" y="312"/>
                </a:lnTo>
                <a:lnTo>
                  <a:pt x="1152" y="192"/>
                </a:lnTo>
                <a:lnTo>
                  <a:pt x="1488" y="96"/>
                </a:lnTo>
                <a:lnTo>
                  <a:pt x="2124" y="0"/>
                </a:lnTo>
              </a:path>
            </a:pathLst>
          </a:custGeom>
          <a:noFill/>
          <a:ln cap="rnd" w="9360">
            <a:solidFill>
              <a:srgbClr val="ff66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962000" y="2247840"/>
            <a:ext cx="6629400" cy="2971800"/>
          </a:xfrm>
          <a:custGeom>
            <a:avLst/>
            <a:gdLst/>
            <a:ahLst/>
            <a:rect l="l" t="t" r="r" b="b"/>
            <a:pathLst>
              <a:path w="4176" h="1872">
                <a:moveTo>
                  <a:pt x="0" y="1872"/>
                </a:moveTo>
                <a:lnTo>
                  <a:pt x="192" y="84"/>
                </a:lnTo>
                <a:lnTo>
                  <a:pt x="288" y="12"/>
                </a:lnTo>
                <a:lnTo>
                  <a:pt x="408" y="0"/>
                </a:lnTo>
                <a:lnTo>
                  <a:pt x="468" y="48"/>
                </a:lnTo>
                <a:lnTo>
                  <a:pt x="504" y="156"/>
                </a:lnTo>
                <a:lnTo>
                  <a:pt x="948" y="1692"/>
                </a:lnTo>
                <a:cubicBezTo>
                  <a:pt x="1217" y="1740"/>
                  <a:pt x="1508" y="1726"/>
                  <a:pt x="1752" y="1848"/>
                </a:cubicBezTo>
                <a:lnTo>
                  <a:pt x="3060" y="1800"/>
                </a:lnTo>
                <a:lnTo>
                  <a:pt x="3744" y="1320"/>
                </a:lnTo>
                <a:lnTo>
                  <a:pt x="3924" y="960"/>
                </a:lnTo>
                <a:lnTo>
                  <a:pt x="4176" y="336"/>
                </a:lnTo>
              </a:path>
            </a:pathLst>
          </a:custGeom>
          <a:noFill/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162240" y="3029040"/>
            <a:ext cx="362160" cy="743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1440" y="-38520"/>
            <a:ext cx="8820360" cy="838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pt-BR" sz="3400" spc="-1" strike="noStrike">
                <a:solidFill>
                  <a:srgbClr val="000000"/>
                </a:solidFill>
                <a:latin typeface="Arial"/>
              </a:rPr>
              <a:t>Projeto</a:t>
            </a: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1461960"/>
            <a:ext cx="8420400" cy="4267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marL="533520" indent="-533520">
              <a:lnSpc>
                <a:spcPct val="14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m projeto é um esforço </a:t>
            </a:r>
            <a:r>
              <a:rPr b="0" i="1" lang="pt-BR" sz="3200" spc="-1" strike="noStrike">
                <a:solidFill>
                  <a:srgbClr val="000000"/>
                </a:solidFill>
                <a:latin typeface="Century Gothic"/>
              </a:rPr>
              <a:t>temporário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3200" spc="-1" strike="noStrike">
                <a:solidFill>
                  <a:srgbClr val="000000"/>
                </a:solidFill>
                <a:latin typeface="Century Gothic"/>
              </a:rPr>
              <a:t>empreendid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para atingir um </a:t>
            </a:r>
            <a:r>
              <a:rPr b="0" i="1" lang="pt-BR" sz="3200" spc="-1" strike="noStrike">
                <a:solidFill>
                  <a:srgbClr val="000000"/>
                </a:solidFill>
                <a:latin typeface="Century Gothic"/>
              </a:rPr>
              <a:t>únic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propósito (produto ou serviço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linhados com os planos estratégicos da organiz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61440" y="-38520"/>
            <a:ext cx="8820360" cy="838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pt-BR" sz="3400" spc="-1" strike="noStrike">
                <a:solidFill>
                  <a:srgbClr val="000000"/>
                </a:solidFill>
                <a:latin typeface="Arial"/>
              </a:rPr>
              <a:t>Referências</a:t>
            </a: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742680" y="125712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marL="476280" indent="-476280">
              <a:lnSpc>
                <a:spcPct val="12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BOK Guide; Project Management Institute; 2004 Edition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2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erência de Projetos; Heldman, K; Campus;  2a edição; 20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2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estão de Projetos: as melhores práticas; Kerzner, H; Bookman,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2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oftware Engineering: A Practioner’s Approach; 5a ed; Pressman, R. S.; McGraw-Hill;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2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ject Management; Harold Kerzner; John Wiley &amp; Sons; 19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1440" y="-38520"/>
            <a:ext cx="8820360" cy="838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pt-BR" sz="34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 dos </a:t>
            </a:r>
            <a:r>
              <a:rPr b="0" i="1" lang="pt-BR" sz="3400" spc="-1" strike="noStrike">
                <a:solidFill>
                  <a:srgbClr val="000000"/>
                </a:solidFill>
                <a:latin typeface="Arial"/>
              </a:rPr>
              <a:t>Projetos</a:t>
            </a: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680" y="1412640"/>
            <a:ext cx="894528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marL="476280" indent="-4762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pósito ú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mporá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47600" indent="-380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ício e término bem defin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47600" indent="-380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rmina quando os objetivos são alcançados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ou quando não podem mais..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47600" indent="-380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é sinônimo de curta du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47600" indent="-380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quipe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omo equipe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raramente sobrevive a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601"/>
              </a:spcBef>
              <a:buSzPct val="105842"/>
              <a:buBlip>
                <a:blip r:embed="rId7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tiliza recursos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envolve todos os níveis da organizaçã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laboração progres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ssui um patrocinador ou cl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nvolve incertez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1440" y="-38520"/>
            <a:ext cx="8820360" cy="838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pt-BR" sz="3400" spc="-1" strike="noStrike">
                <a:solidFill>
                  <a:srgbClr val="000000"/>
                </a:solidFill>
                <a:latin typeface="Arial"/>
              </a:rPr>
              <a:t>Organização e seus Empreendimentos</a:t>
            </a: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1461600"/>
            <a:ext cx="8420400" cy="48006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marL="476280" indent="-476280">
              <a:lnSpc>
                <a:spcPct val="11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ierarquia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lano Estratégico, Programas, Projetos e Sub proje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grama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rupo de projetos gerenciados de forma relacionada, a fim de se obter objetivos, que não poderiam ser obtidos de forma isol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ub-projeto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visão feita dos projetos, de modo a torná-lo mais gerenciável. São freqüentemente contratados de outra empresa ou unidade fun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8520" y="190440"/>
            <a:ext cx="8820000" cy="571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</a:rPr>
              <a:t>Abrangência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61800" y="5180760"/>
            <a:ext cx="2762280" cy="438120"/>
          </a:xfrm>
          <a:custGeom>
            <a:avLst/>
            <a:gdLst>
              <a:gd name="textAreaLeft" fmla="*/ 341640 w 2762280"/>
              <a:gd name="textAreaRight" fmla="*/ 2420640 w 2762280"/>
              <a:gd name="textAreaTop" fmla="*/ 54000 h 438120"/>
              <a:gd name="textAreaBottom" fmla="*/ 384120 h 43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937" y="21600"/>
                </a:lnTo>
                <a:lnTo>
                  <a:pt x="1663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704880" y="4475880"/>
            <a:ext cx="2076480" cy="419400"/>
          </a:xfrm>
          <a:custGeom>
            <a:avLst/>
            <a:gdLst>
              <a:gd name="textAreaLeft" fmla="*/ 257040 w 2076480"/>
              <a:gd name="textAreaRight" fmla="*/ 1819440 w 2076480"/>
              <a:gd name="textAreaTop" fmla="*/ 51840 h 419400"/>
              <a:gd name="textAreaBottom" fmla="*/ 367560 h 41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937" y="21600"/>
                </a:lnTo>
                <a:lnTo>
                  <a:pt x="1663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028880" y="3828960"/>
            <a:ext cx="1428480" cy="362160"/>
          </a:xfrm>
          <a:custGeom>
            <a:avLst/>
            <a:gdLst>
              <a:gd name="textAreaLeft" fmla="*/ 176760 w 1428480"/>
              <a:gd name="textAreaRight" fmla="*/ 1251720 w 1428480"/>
              <a:gd name="textAreaTop" fmla="*/ 44640 h 362160"/>
              <a:gd name="textAreaBottom" fmla="*/ 317520 h 3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937" y="21600"/>
                </a:lnTo>
                <a:lnTo>
                  <a:pt x="1663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76200" y="2571840"/>
            <a:ext cx="914400" cy="9903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8640" y="2552760"/>
            <a:ext cx="1390680" cy="306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48080" y="561960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840" bIns="-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43440" y="2533680"/>
            <a:ext cx="876240" cy="30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343040" y="2533680"/>
            <a:ext cx="476280" cy="30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43400" y="5619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840" bIns="-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00600" y="2571840"/>
            <a:ext cx="1908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19680" y="2533680"/>
            <a:ext cx="1390680" cy="30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790960" y="561960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840" bIns="-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4819320" y="2571840"/>
            <a:ext cx="971640" cy="302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57840" y="2590920"/>
            <a:ext cx="247680" cy="30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86440" y="561960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840" bIns="-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4819320" y="2571840"/>
            <a:ext cx="60948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8760" y="3193920"/>
            <a:ext cx="410400" cy="7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38360" y="3193920"/>
            <a:ext cx="410400" cy="7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97800" y="5697360"/>
            <a:ext cx="269496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algn="ctr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lhas Operacion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1920" y="5659560"/>
            <a:ext cx="213732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algn="ctr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ap Ger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0520" y="5640480"/>
            <a:ext cx="215244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 algn="ctr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ap Fu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546600" y="2533680"/>
            <a:ext cx="2806920" cy="3085920"/>
            <a:chOff x="6546600" y="2533680"/>
            <a:chExt cx="2806920" cy="3085920"/>
          </a:xfrm>
        </p:grpSpPr>
        <p:sp>
          <p:nvSpPr>
            <p:cNvPr id="125" name=""/>
            <p:cNvSpPr/>
            <p:nvPr/>
          </p:nvSpPr>
          <p:spPr>
            <a:xfrm flipV="1">
              <a:off x="6591240" y="5180400"/>
              <a:ext cx="2762280" cy="438120"/>
            </a:xfrm>
            <a:custGeom>
              <a:avLst/>
              <a:gdLst>
                <a:gd name="textAreaLeft" fmla="*/ 341640 w 2762280"/>
                <a:gd name="textAreaRight" fmla="*/ 2420640 w 2762280"/>
                <a:gd name="textAreaTop" fmla="*/ 54000 h 438120"/>
                <a:gd name="textAreaBottom" fmla="*/ 384120 h 43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937" y="21600"/>
                  </a:lnTo>
                  <a:lnTo>
                    <a:pt x="1663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6934320" y="4475880"/>
              <a:ext cx="2076480" cy="418680"/>
            </a:xfrm>
            <a:custGeom>
              <a:avLst/>
              <a:gdLst>
                <a:gd name="textAreaLeft" fmla="*/ 257040 w 2076480"/>
                <a:gd name="textAreaRight" fmla="*/ 1819440 w 2076480"/>
                <a:gd name="textAreaTop" fmla="*/ 51840 h 418680"/>
                <a:gd name="textAreaBottom" fmla="*/ 366840 h 41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937" y="21600"/>
                  </a:lnTo>
                  <a:lnTo>
                    <a:pt x="1663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7257960" y="3827880"/>
              <a:ext cx="1428840" cy="361800"/>
            </a:xfrm>
            <a:custGeom>
              <a:avLst/>
              <a:gdLst>
                <a:gd name="textAreaLeft" fmla="*/ 176760 w 1428840"/>
                <a:gd name="textAreaRight" fmla="*/ 1252080 w 1428840"/>
                <a:gd name="textAreaTop" fmla="*/ 44640 h 361800"/>
                <a:gd name="textAreaBottom" fmla="*/ 317160 h 36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937" y="21600"/>
                  </a:lnTo>
                  <a:lnTo>
                    <a:pt x="1663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05640" y="2571480"/>
              <a:ext cx="914400" cy="990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6040" rIns="8604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6571800" y="2552400"/>
              <a:ext cx="1390680" cy="30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91240" y="5619600"/>
              <a:ext cx="4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7086600" y="2533680"/>
              <a:ext cx="876240" cy="308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7486200" y="2533680"/>
              <a:ext cx="476280" cy="308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486560" y="5619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7943760" y="2571480"/>
              <a:ext cx="19080" cy="30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62840" y="2533680"/>
              <a:ext cx="1390680" cy="308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8934120" y="5619600"/>
              <a:ext cx="39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7962480" y="2571120"/>
              <a:ext cx="971640" cy="30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001000" y="2590560"/>
              <a:ext cx="247680" cy="30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229600" y="5619600"/>
              <a:ext cx="34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7962840" y="2571480"/>
              <a:ext cx="609840" cy="30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210520" y="5181120"/>
              <a:ext cx="26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572160" y="5600520"/>
              <a:ext cx="457200" cy="1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-24120" bIns="-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238880" y="5181120"/>
              <a:ext cx="304920" cy="0"/>
            </a:xfrm>
            <a:prstGeom prst="line">
              <a:avLst/>
            </a:prstGeom>
            <a:ln w="9360">
              <a:solidFill>
                <a:srgbClr val="f3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05680" y="561960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943760" y="5619600"/>
              <a:ext cx="304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572680" y="5619600"/>
              <a:ext cx="361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5181120"/>
              <a:ext cx="285840" cy="0"/>
            </a:xfrm>
            <a:prstGeom prst="line">
              <a:avLst/>
            </a:prstGeom>
            <a:ln w="9360">
              <a:solidFill>
                <a:srgbClr val="f3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496360" y="5181120"/>
              <a:ext cx="304920" cy="0"/>
            </a:xfrm>
            <a:prstGeom prst="line">
              <a:avLst/>
            </a:prstGeom>
            <a:ln w="9360">
              <a:solidFill>
                <a:srgbClr val="f3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7219800" y="4895640"/>
              <a:ext cx="76320" cy="266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6781680" y="4914720"/>
              <a:ext cx="114480" cy="26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7543440" y="4895640"/>
              <a:ext cx="57240" cy="2664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7943400" y="4895640"/>
              <a:ext cx="19080" cy="285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91440" y="4876560"/>
              <a:ext cx="19080" cy="285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439120" y="4895640"/>
              <a:ext cx="57240" cy="285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705880" y="4895640"/>
              <a:ext cx="95400" cy="285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048600" y="4914720"/>
              <a:ext cx="133560" cy="304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7429680" y="4457520"/>
              <a:ext cx="247320" cy="1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-24120" bIns="-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7296120" y="4876200"/>
              <a:ext cx="324000" cy="37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962840" y="4476600"/>
              <a:ext cx="171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81920" y="4876560"/>
              <a:ext cx="190440" cy="1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-24120" bIns="-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439120" y="4895640"/>
              <a:ext cx="2476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381880" y="4476600"/>
              <a:ext cx="190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7429680" y="4209840"/>
              <a:ext cx="56880" cy="266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7086600" y="4190760"/>
              <a:ext cx="133200" cy="285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7658280" y="4190760"/>
              <a:ext cx="56880" cy="285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943760" y="4190760"/>
              <a:ext cx="0" cy="285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134200" y="4171680"/>
              <a:ext cx="1908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05920" y="4209840"/>
              <a:ext cx="56880" cy="266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496360" y="4209840"/>
              <a:ext cx="95040" cy="228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705880" y="4190760"/>
              <a:ext cx="133200" cy="285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6546600" y="5192640"/>
              <a:ext cx="222120" cy="415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6858000" y="4361760"/>
              <a:ext cx="266760" cy="628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677000" y="3562200"/>
              <a:ext cx="114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981920" y="3562200"/>
              <a:ext cx="114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172360" y="3562200"/>
              <a:ext cx="114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601040" y="3828600"/>
              <a:ext cx="152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962840" y="3809520"/>
              <a:ext cx="114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962840" y="3847680"/>
              <a:ext cx="152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8229600" y="3809520"/>
              <a:ext cx="133200" cy="1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-24120" bIns="-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505640" y="4190760"/>
              <a:ext cx="190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962840" y="4190760"/>
              <a:ext cx="152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286840" y="4190760"/>
              <a:ext cx="190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7372440" y="3562200"/>
              <a:ext cx="133200" cy="26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7600680" y="3562200"/>
              <a:ext cx="75960" cy="26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7201080" y="4095000"/>
              <a:ext cx="56880" cy="75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7772400" y="3562200"/>
              <a:ext cx="38160" cy="26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962840" y="3580920"/>
              <a:ext cx="0" cy="266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077320" y="3600000"/>
              <a:ext cx="38160" cy="228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72360" y="3580920"/>
              <a:ext cx="76320" cy="266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286840" y="3562200"/>
              <a:ext cx="95040" cy="246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420040" y="3580920"/>
              <a:ext cx="114480" cy="228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8553600" y="4419720"/>
            <a:ext cx="0" cy="38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680" bIns="-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896320" y="4476600"/>
            <a:ext cx="19044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19840" y="4267080"/>
            <a:ext cx="23241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840" bIns="-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67560" y="5600880"/>
            <a:ext cx="2667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840" bIns="-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6610320" y="5124600"/>
            <a:ext cx="209520" cy="5140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6648480" y="5181480"/>
            <a:ext cx="171360" cy="43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6876720" y="4381560"/>
            <a:ext cx="266760" cy="666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953400" y="4476600"/>
            <a:ext cx="171360" cy="41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458200" y="3562200"/>
            <a:ext cx="971640" cy="21718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124920" y="5181480"/>
            <a:ext cx="190440" cy="43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57960" y="3772080"/>
            <a:ext cx="1352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840" bIns="-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7213680" y="3714840"/>
            <a:ext cx="209520" cy="5904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7257960" y="3828960"/>
            <a:ext cx="152640" cy="3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820000" y="4476600"/>
            <a:ext cx="171720" cy="41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067520" y="4438800"/>
            <a:ext cx="1981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840" bIns="-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553600" y="3828960"/>
            <a:ext cx="133200" cy="3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191440" y="3657600"/>
            <a:ext cx="419040" cy="222876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458200" y="5181480"/>
            <a:ext cx="76320" cy="43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05920" y="4476600"/>
            <a:ext cx="56880" cy="41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210520" y="3828960"/>
            <a:ext cx="57240" cy="3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521560" y="4324320"/>
            <a:ext cx="38160" cy="10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7588080" y="4476600"/>
            <a:ext cx="76320" cy="501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7562520" y="4483080"/>
            <a:ext cx="114120" cy="4255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7505280" y="4896000"/>
            <a:ext cx="444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840" bIns="-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7556400" y="4902120"/>
            <a:ext cx="400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840" bIns="-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070840" y="3594240"/>
            <a:ext cx="165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040" rIns="86040" tIns="-42840" bIns="-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3040" y="1117440"/>
            <a:ext cx="8227800" cy="10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Podem envolver toda a organização ou mais de uma organiz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61440" y="-38520"/>
            <a:ext cx="8820360" cy="8384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b">
            <a:noAutofit/>
          </a:bodyPr>
          <a:p>
            <a:pPr indent="0" algn="r"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i="1" lang="pt-BR" sz="3400" spc="-1" strike="noStrike">
                <a:solidFill>
                  <a:srgbClr val="000000"/>
                </a:solidFill>
                <a:latin typeface="Arial"/>
              </a:rPr>
              <a:t>Conceito de Gerência de Projetos</a:t>
            </a: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14080" y="1309680"/>
            <a:ext cx="8420040" cy="48196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marL="476280" indent="-476280">
              <a:lnSpc>
                <a:spcPct val="14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plicação de conhecimentos, habilidades e técnicas para definir atividades que visem atingir ou exceder as necessidades e expectativas das partes envolvidas, com relação ao proj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349"/>
              </a:spcBef>
              <a:buSzPct val="105842"/>
              <a:buBlip>
                <a:blip r:embed="rId2"/>
              </a:buBlip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gênio real da gestão está em converter a complexidade e a especialização em desempenho”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O que é Gerenciar e  Administrar; Magretta, J; Campus; 200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140000"/>
              </a:lnSpc>
              <a:spcBef>
                <a:spcPts val="349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8T13:41:26Z</dcterms:created>
  <dc:creator>José Roberto S. Blaschek</dc:creator>
  <dc:description/>
  <dc:language>en-US</dc:language>
  <cp:lastModifiedBy>Coordenacao Academica</cp:lastModifiedBy>
  <dcterms:modified xsi:type="dcterms:W3CDTF">2005-08-17T02:17:01Z</dcterms:modified>
  <cp:revision>306</cp:revision>
  <dc:subject/>
  <dc:title>Gerência de Projetos de Software</dc:title>
</cp:coreProperties>
</file>